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492A-A930-4059-82BF-06FBECC58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FF74-71C3-4633-B941-D632391A1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94D4-0D87-4EC8-AD75-073FCB886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85BE-311F-4C20-97A3-9D6CEF0B3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C28E-27A8-494B-8E5F-842917A04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B302-9AE4-4CA1-A905-758117871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D530-6690-4607-B936-C9C3A3E2F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1695-7E8C-4F8D-87AD-1304B1A26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32BD-7B85-4B0B-910C-F112D59EF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E67C-2269-42AC-902E-D21479329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D73A-A231-47E9-9DFE-515FA99B8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4C19-C4B7-4168-B206-CAB33553E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BE63-C88A-49F7-BA73-ED659BD08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67B-4AD5-4C7B-9036-CC931201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98A-3EF8-4DAD-B847-E839288F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59A-BE3C-41E2-A802-25F6DE22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7FD-A9EB-4585-9997-41145176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95E-6934-4D1F-B98A-9ACFA1AF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E61-232F-47F8-A6EA-C095409E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D8A-AB51-4653-A9E9-0BE18E0E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536-7EE2-496D-A81D-538CB96A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780-4CA7-4B35-8524-3BA1CD4F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BBC-6CE4-48A1-AC46-9A6627E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9BF-0DC6-4301-AAD6-BE699F49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235-EA88-418D-B22E-BACC740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492B-C5CA-4DAE-936C-C3145FB36355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SBI3U - Mr.Vasili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284A-DD70-4CDB-96B6-362AFBC46E72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A110-AA24-4A07-B0EF-7A2061660DDD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55F7-B01C-4C2D-B6A1-4F1E85B90825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77708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41e1e"/>
                </a:solidFill>
                <a:latin typeface="Comic Sans MS"/>
              </a:rPr>
              <a:t>UNIT 1: CELLULAR BIOLOG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41e1e"/>
                </a:solidFill>
                <a:latin typeface="Comic Sans MS"/>
              </a:rPr>
              <a:t>Cell Theory &amp; the Microscope</a:t>
            </a:r>
            <a:endParaRPr b="0" lang="en-US" sz="40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51" name="Picture 18" descr="SuperStock_1612R-2774"/>
          <p:cNvPicPr/>
          <p:nvPr/>
        </p:nvPicPr>
        <p:blipFill>
          <a:blip r:embed="rId1"/>
          <a:stretch/>
        </p:blipFill>
        <p:spPr>
          <a:xfrm>
            <a:off x="4767120" y="3716280"/>
            <a:ext cx="4125960" cy="28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huge"/>
          <p:cNvPicPr/>
          <p:nvPr/>
        </p:nvPicPr>
        <p:blipFill>
          <a:blip r:embed="rId2"/>
          <a:stretch/>
        </p:blipFill>
        <p:spPr>
          <a:xfrm>
            <a:off x="179280" y="371628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croscope #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YOUR #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IT DOWN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808D-B444-4A69-8FB2-32149BE99839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FFB9-BA8F-476C-A44F-CAA1CA5A5E0D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croscope Activity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101" name="Picture 4" descr="act005"/>
          <p:cNvPicPr/>
          <p:nvPr/>
        </p:nvPicPr>
        <p:blipFill>
          <a:blip r:embed="rId1"/>
          <a:stretch/>
        </p:blipFill>
        <p:spPr>
          <a:xfrm>
            <a:off x="1571760" y="5357880"/>
            <a:ext cx="3887640" cy="118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428760" y="1214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Obtain a microscope.  Working in pairs, identify all       of the parts of the micro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28760" y="2071800"/>
            <a:ext cx="7929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activity (Resolution) on page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each of you answers questions a, b and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 &amp; cover slip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ured picture from a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This%20is%20a%20test"/>
          <p:cNvPicPr/>
          <p:nvPr/>
        </p:nvPicPr>
        <p:blipFill>
          <a:blip r:embed="rId2"/>
          <a:stretch/>
        </p:blipFill>
        <p:spPr>
          <a:xfrm>
            <a:off x="6429240" y="3714840"/>
            <a:ext cx="2116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 Work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page 8 (take notes on TEM &amp; SE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page 9 # 1, 2, 4,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ll Theory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living things are composed of one or more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s are the basic structural and functional units of lif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cells arise from the division of other c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Robert Hooke discover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s in 165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? ……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cell"/>
          <p:cNvPicPr/>
          <p:nvPr/>
        </p:nvPicPr>
        <p:blipFill>
          <a:blip r:embed="rId1"/>
          <a:stretch/>
        </p:blipFill>
        <p:spPr>
          <a:xfrm>
            <a:off x="7157880" y="260280"/>
            <a:ext cx="198612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robert_hooke"/>
          <p:cNvPicPr/>
          <p:nvPr/>
        </p:nvPicPr>
        <p:blipFill>
          <a:blip r:embed="rId2"/>
          <a:stretch/>
        </p:blipFill>
        <p:spPr>
          <a:xfrm>
            <a:off x="7236000" y="4508640"/>
            <a:ext cx="1736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58" name="Picture 5" descr="fg14_3_1"/>
          <p:cNvPicPr/>
          <p:nvPr/>
        </p:nvPicPr>
        <p:blipFill>
          <a:blip r:embed="rId1"/>
          <a:stretch/>
        </p:blipFill>
        <p:spPr>
          <a:xfrm>
            <a:off x="684360" y="1628640"/>
            <a:ext cx="4038480" cy="448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38-microscopes-lg"/>
          <p:cNvPicPr/>
          <p:nvPr/>
        </p:nvPicPr>
        <p:blipFill>
          <a:blip r:embed="rId2"/>
          <a:stretch/>
        </p:blipFill>
        <p:spPr>
          <a:xfrm>
            <a:off x="5867280" y="1700280"/>
            <a:ext cx="2438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two len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ocular lens (10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objective lens (4X, 10X, 40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ow 4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Medium 10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High 40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agnif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of lenses to enlar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mage of a speci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ification = ocular lens X objective l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0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   10X     times     40X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7" descr="magnification"/>
          <p:cNvPicPr/>
          <p:nvPr/>
        </p:nvPicPr>
        <p:blipFill>
          <a:blip r:embed="rId1"/>
          <a:stretch/>
        </p:blipFill>
        <p:spPr>
          <a:xfrm>
            <a:off x="5715000" y="2286000"/>
            <a:ext cx="3193920" cy="3193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500040" y="5572080"/>
            <a:ext cx="62658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4967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mount of detail s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viewing a speci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resolution = blurred 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resolution = clear, sharp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blurry_20030715"/>
          <p:cNvPicPr/>
          <p:nvPr/>
        </p:nvPicPr>
        <p:blipFill>
          <a:blip r:embed="rId1"/>
          <a:srcRect l="33286" t="0" r="10850" b="16042"/>
          <a:stretch/>
        </p:blipFill>
        <p:spPr>
          <a:xfrm>
            <a:off x="5651640" y="1413000"/>
            <a:ext cx="302400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ell1"/>
          <p:cNvPicPr/>
          <p:nvPr/>
        </p:nvPicPr>
        <p:blipFill>
          <a:blip r:embed="rId2"/>
          <a:srcRect l="30564" t="0" r="0" b="11399"/>
          <a:stretch/>
        </p:blipFill>
        <p:spPr>
          <a:xfrm>
            <a:off x="5678640" y="3938760"/>
            <a:ext cx="2997000" cy="218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BB4D-C42E-4964-B850-28F06A6F9488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569A-1527-46C1-ADBF-81CA1EBFACBF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lba Super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1341360"/>
          <a:ext cx="445428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445428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6"/>
          <p:cNvSpPr/>
          <p:nvPr/>
        </p:nvSpPr>
        <p:spPr>
          <a:xfrm>
            <a:off x="5506920" y="873000"/>
            <a:ext cx="3168720" cy="60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 ocul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 body tub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. ar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clip adjustment kn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ving nose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. stage cl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1. st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. condens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3. diaphrag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4. l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. 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o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piece lens, magnifies 10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body t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ts light into ocular, sup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stage clip adjustment kn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ves slide a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coarse adjustment kn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ves stage up and down to focus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Text Box 150"/>
          <p:cNvSpPr/>
          <p:nvPr/>
        </p:nvSpPr>
        <p:spPr>
          <a:xfrm>
            <a:off x="3708360" y="2270160"/>
            <a:ext cx="489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3708360" y="3789360"/>
            <a:ext cx="489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3708360" y="430524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4"/>
          <p:cNvSpPr/>
          <p:nvPr/>
        </p:nvSpPr>
        <p:spPr>
          <a:xfrm>
            <a:off x="3635280" y="530064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5"/>
          <p:cNvSpPr/>
          <p:nvPr/>
        </p:nvSpPr>
        <p:spPr>
          <a:xfrm>
            <a:off x="3708360" y="278136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95792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fine adjustment kn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e focus for most clear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revolving   nosepie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ds objective lenses &amp; facilitates changing magn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objective 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rther magnifies the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aper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ing to allow light to hit the speci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 stage cl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ds slide in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Text Box 46"/>
          <p:cNvSpPr/>
          <p:nvPr/>
        </p:nvSpPr>
        <p:spPr>
          <a:xfrm>
            <a:off x="3780000" y="2276640"/>
            <a:ext cx="4824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7"/>
          <p:cNvSpPr/>
          <p:nvPr/>
        </p:nvSpPr>
        <p:spPr>
          <a:xfrm>
            <a:off x="3708360" y="3213000"/>
            <a:ext cx="48243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708360" y="4594320"/>
            <a:ext cx="4824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3708360" y="5170320"/>
            <a:ext cx="4824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3708360" y="6086520"/>
            <a:ext cx="4824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15116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 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ce specimen on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 conden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cuses light into a b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 diaphrag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ols the amount of light hitting the speci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 ligh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nds out light rays so specimen is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pports microsc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3851280" y="2205000"/>
            <a:ext cx="4608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3780000" y="2846520"/>
            <a:ext cx="460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3708360" y="3422520"/>
            <a:ext cx="47512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3708360" y="4365720"/>
            <a:ext cx="47512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3780000" y="5294160"/>
            <a:ext cx="4608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3:45:35Z</dcterms:created>
  <dc:creator>Candle</dc:creator>
  <dc:description/>
  <dc:language>en-US</dc:language>
  <cp:lastModifiedBy>Preferred Customer</cp:lastModifiedBy>
  <dcterms:modified xsi:type="dcterms:W3CDTF">2010-06-22T13:08:53Z</dcterms:modified>
  <cp:revision>111</cp:revision>
  <dc:subject/>
  <dc:title>Slide 1</dc:title>
</cp:coreProperties>
</file>